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5F8-0DC9-4CBF-8E43-831893532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133C-250A-49FF-A6E8-652A4D88B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CAE-4416-452D-9749-F4E381EB4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D9F-1ADB-494F-B6D9-07C8FDF7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1BB-8833-4B06-8296-F48E853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D61-2DDE-4866-81B2-6846049F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930-7FB1-4AD1-B2A0-92A1A45D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601-8E46-46B1-B1BB-5C434645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39CE-C3E9-4597-B1D1-C6397B84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8F9-8929-4CD6-ABBE-6766563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F8E5-0F51-4226-A17B-2C250BE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6BD1-251E-4F4D-92A0-B4F2830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1DB1-B3E0-4B5E-A3A7-50F3646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1CD2-66CB-40BB-812F-87345E5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913-9530-4426-A366-C846C54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F75B-44F9-43D2-B832-308E100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B681-5C11-49DA-BF7A-7543FD4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9D8C-3FCB-4CF9-AD48-A12BDAC3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E580-3B11-46E5-9927-2D0E6292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7BB8-367D-4B80-9E03-64C469ED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911-86CF-47D5-AB5C-EC5E5CB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C0B-3FA4-4ACC-9916-DD48D79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548-5B03-416C-B29F-B6B19CAD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9D2-1C53-4DC7-B6A0-37AD154A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E71-2C51-4481-897C-38301BDC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64D-EC22-42E2-9EE3-E73DBF5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A70-4AC3-4226-B999-0EC3E27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7B2E-50AA-40D9-8DF9-C4D3A9C2D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F6E-B419-4FE2-9173-F41F939EA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ortsproductreview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ment of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managers need to manage a product through its 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y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ion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Mod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the product’s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od going to touch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od mi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tch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 Mod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new custom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current customers to use more of th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rin (once daily to prevent heart attac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ositio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s changing a product’s image in relation to its competitor’s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hange in any one of the 4 P’s can cause this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alance:  redesign its athletic shoes for older people who have wider f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longer have to compete with Nike and Reebok direct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 their promotions to reach older peo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cycle represents the stages that a product goes through during its life in the market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stages a product goes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when the product is first introduced into the market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mo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sumer awareness and getting customers to try the new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mming Pricing:  high pricing to cover research and development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etration Pricing:  price a new product low in comparison to other products in order to quickly create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mpetitors enter the market if they see that a new product is success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Aid and Sportsade in response to Gato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e competitive at this stage, the product may be improved by adding new features or new products in that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ng distribution outlets is important at this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just convenience stores and supermarkets to vending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urit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begin to slow down for th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customers may stop buying the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buyers are difficult to at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end market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ales and profits begin to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ical advances can cause entire product categories to enter the decline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nies end up dropping products in the decline phase from their produ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Consider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products fit the life-cycle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S:  products that become popular quickly and lose popularity just as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osh B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tent Placeholder 3" descr="life_cycle_01.gif"/>
          <p:cNvPicPr/>
          <p:nvPr/>
        </p:nvPicPr>
        <p:blipFill>
          <a:blip r:embed="rId1"/>
          <a:srcRect l="-47382" t="0" r="-47382" b="0"/>
          <a:stretch/>
        </p:blipFill>
        <p:spPr>
          <a:xfrm>
            <a:off x="63360" y="380880"/>
            <a:ext cx="839484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0" y="639612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-rohan.sdsu.edu/~renglish/370/notes/chapt11/life_cycle_01.g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00:25Z</dcterms:created>
  <dc:creator>vtroutman</dc:creator>
  <dc:description/>
  <dc:language>en-US</dc:language>
  <cp:lastModifiedBy>cysd</cp:lastModifiedBy>
  <cp:lastPrinted>2012-05-03T11:09:44Z</cp:lastPrinted>
  <dcterms:modified xsi:type="dcterms:W3CDTF">2012-05-03T11:26:59Z</dcterms:modified>
  <cp:revision>13</cp:revision>
  <dc:subject/>
  <dc:title>Product Life Cycle</dc:title>
</cp:coreProperties>
</file>